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402-E9BB-4B8C-B338-B41CF128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D3C-4378-4E7C-9DB4-2D4D21AF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B23-8206-4427-A2CB-BD767676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7B9-F2F8-4093-B0E0-F403F23E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C5B-7600-4184-9BCB-6DE8D833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450-61AD-4766-8009-7EF9FCB4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56B-311F-454E-89F6-36DA41E4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4BB-3FCA-463A-BF72-CFBF20E1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957-E8E1-4342-93CB-E2C2AB5D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9C7-6117-49B8-9662-AAC33455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175-7F00-4292-ABE5-CE483498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72F-2B52-4E07-AB62-E8BE059A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84D6-9D92-4768-8D2F-38AD393A07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:\&#33298;&#23159;&#25991;&#20214;\&#26032;&#24314;&#25991;&#20214;&#22841;\&#19968;&#20108;&#20061;1_803.avi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97360"/>
            <a:ext cx="55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650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0" y="1484280"/>
            <a:ext cx="3816360" cy="20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传承民族文化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4005360"/>
            <a:ext cx="3672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共建和谐校园</a:t>
            </a:r>
            <a:endParaRPr b="0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9144000" y="0"/>
            <a:ext cx="342108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6920" y="558972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二五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09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京大学爱国师生掀起抗日反蒋热潮，组织南下示威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北大南下示威团袖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88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1657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津学生南下扩大宣传团在河北固安县进行抗日宣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165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616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游行学生被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278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大学生在“一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”运动时期编辑出版的部分刊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/>
          </p:cNvPr>
          <p:cNvSpPr/>
          <p:nvPr/>
        </p:nvSpPr>
        <p:spPr>
          <a:xfrm>
            <a:off x="539640" y="836640"/>
            <a:ext cx="2519640" cy="2016000"/>
          </a:xfrm>
          <a:custGeom>
            <a:avLst/>
            <a:gdLst>
              <a:gd name="textAreaLeft" fmla="*/ 130680 w 2519640"/>
              <a:gd name="textAreaRight" fmla="*/ 2388960 w 2519640"/>
              <a:gd name="textAreaTop" fmla="*/ 130680 h 2016000"/>
              <a:gd name="textAreaBottom" fmla="*/ 1885320 h 2016000"/>
            </a:gdLst>
            <a:ahLst/>
            <a:rect l="textAreaLeft" t="textAreaTop" r="textAreaRight" b="textAreaBottom"/>
            <a:pathLst>
              <a:path w="26995" h="21600">
                <a:moveTo>
                  <a:pt x="0" y="0"/>
                </a:moveTo>
                <a:lnTo>
                  <a:pt x="26995" y="0"/>
                </a:lnTo>
                <a:lnTo>
                  <a:pt x="26995" y="21600"/>
                </a:lnTo>
                <a:lnTo>
                  <a:pt x="0" y="21600"/>
                </a:lnTo>
                <a:close/>
              </a:path>
              <a:path fill="lightenLess" w="26995" h="21600">
                <a:moveTo>
                  <a:pt x="0" y="0"/>
                </a:moveTo>
                <a:lnTo>
                  <a:pt x="26995" y="0"/>
                </a:lnTo>
                <a:lnTo>
                  <a:pt x="25595" y="1400"/>
                </a:lnTo>
                <a:lnTo>
                  <a:pt x="1400" y="1400"/>
                </a:lnTo>
                <a:close/>
              </a:path>
              <a:path fill="darken" w="26995" h="21600">
                <a:moveTo>
                  <a:pt x="26995" y="0"/>
                </a:moveTo>
                <a:lnTo>
                  <a:pt x="26995" y="21600"/>
                </a:lnTo>
                <a:lnTo>
                  <a:pt x="25595" y="20200"/>
                </a:lnTo>
                <a:lnTo>
                  <a:pt x="25595" y="1400"/>
                </a:lnTo>
                <a:close/>
              </a:path>
              <a:path fill="darkenLess" w="26995" h="21600">
                <a:moveTo>
                  <a:pt x="26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5" y="20200"/>
                </a:lnTo>
                <a:close/>
              </a:path>
              <a:path fill="lighten" w="26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5" h="21600">
                <a:moveTo>
                  <a:pt x="1349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95" h="21600">
                <a:moveTo>
                  <a:pt x="14603" y="14281"/>
                </a:moveTo>
                <a:lnTo>
                  <a:pt x="14603" y="12323"/>
                </a:lnTo>
                <a:cubicBezTo>
                  <a:pt x="14603" y="11496"/>
                  <a:pt x="14934" y="10800"/>
                  <a:pt x="15534" y="10800"/>
                </a:cubicBezTo>
                <a:cubicBezTo>
                  <a:pt x="16666" y="10800"/>
                  <a:pt x="17562" y="9434"/>
                  <a:pt x="17562" y="7849"/>
                </a:cubicBezTo>
                <a:cubicBezTo>
                  <a:pt x="17562" y="5534"/>
                  <a:pt x="15708" y="3794"/>
                  <a:pt x="13498" y="3794"/>
                </a:cubicBezTo>
                <a:cubicBezTo>
                  <a:pt x="11287" y="3794"/>
                  <a:pt x="9616" y="5534"/>
                  <a:pt x="9616" y="7849"/>
                </a:cubicBezTo>
                <a:lnTo>
                  <a:pt x="11470" y="7849"/>
                </a:lnTo>
                <a:cubicBezTo>
                  <a:pt x="11470" y="6709"/>
                  <a:pt x="12392" y="5821"/>
                  <a:pt x="13498" y="5821"/>
                </a:cubicBezTo>
                <a:cubicBezTo>
                  <a:pt x="14603" y="5821"/>
                  <a:pt x="15534" y="6709"/>
                  <a:pt x="15534" y="7849"/>
                </a:cubicBezTo>
                <a:cubicBezTo>
                  <a:pt x="15534" y="8589"/>
                  <a:pt x="15064" y="9320"/>
                  <a:pt x="14603" y="9320"/>
                </a:cubicBezTo>
                <a:cubicBezTo>
                  <a:pt x="13498" y="9320"/>
                  <a:pt x="12392" y="10800"/>
                  <a:pt x="12392" y="12323"/>
                </a:cubicBezTo>
                <a:lnTo>
                  <a:pt x="12392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371628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通过以上图片，你是否有所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633000">
            <a:off x="2484360" y="4508280"/>
            <a:ext cx="4572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363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16000" y="3284640"/>
            <a:ext cx="71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由此可见，我们今天的幸福生活，是先辈们用生命换来的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9280" y="260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说说你眼中我们的民族精神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71152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民族精神，是以爱国主义为核心，团结统一、爱好和平、勤劳勇敢、自强不息等作为具体体现的一种精神。它使得中华民族不仅创造了灿烂的文明，而且生生不息、连绵不绝，表现出强大的生命力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060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怎样传承民族文化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99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怎样构建和谐校园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2269800"/>
            <a:ext cx="55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时间的车轮碾到今天的时候，当挂历上将赫然显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好的时候，我相信，身为青年的我们，没有一个人会忘记这一天，十二月九日， 一个普通但不平凡的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1944720" cy="1511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907920"/>
            <a:ext cx="72072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2060640"/>
            <a:ext cx="649080" cy="720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3141720"/>
            <a:ext cx="792360" cy="57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500280"/>
            <a:ext cx="792000" cy="6494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214848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弘扬民族精神，展示中华民族的风采，对于同学们来说，其实很简单，首先要做“改陋习、树新风”的倡导者和实践者，从身边的一点一滴做起，讲文明、讲卫生、讲科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刻苦学习、努力拼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打好一切基础，长大后为祖国的建设贡献自己的一份力量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26028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传承民族文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134136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共建和谐校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393372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高二五班主题班会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724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到此结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6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0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2" dur="10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3" dur="10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2580840"/>
            <a:ext cx="56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时间倒流  回溯到一九三五年，在北平——历史的故都，发生了惊天动地的事件——  为反对投降和压迫掀起了学生总运动，到处是挂满的标语  到处是飘舞的纸单  到处是舞动的小旗…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97000"/>
            <a:ext cx="1944720" cy="1511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907920"/>
            <a:ext cx="72072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2060640"/>
            <a:ext cx="649080" cy="720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3141720"/>
            <a:ext cx="792360" cy="57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3500280"/>
            <a:ext cx="792000" cy="6494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1552320"/>
            <a:ext cx="565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处在新世纪的中学生们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应该不能忘记那满腔的仇恨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淋漓的鲜血和沦陷的国土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为此我校在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日举行了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传承民族文化，共建和谐校园”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为主题的班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1944720" cy="15112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907920"/>
            <a:ext cx="720720" cy="5763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2060640"/>
            <a:ext cx="649080" cy="720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3141720"/>
            <a:ext cx="792360" cy="57456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3500280"/>
            <a:ext cx="792000" cy="6494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0" y="333360"/>
            <a:ext cx="91440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面，请同我一起，简单回顾一下历史……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九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一八事变”后，日本帝国主义占领了东北，接着又向华北发动了新的侵略。１９３５年下半年，日本帝国主义发动华北事变，进一步控制察哈尔，并指使汉奸殷汝耕在冀东成立傀儡政权。国民党政府继续坚持不抵抗政策，竟准备于１２月成立冀察政务委员会，以适应日本帝国主义提出的华北政权特殊化要求。失地丧权，亡国灭种的大祸迫在眉睫。１２月９日，在中共北平临时工作委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会的领导下，北平爱国学生６０００余人，高呼“停止内战，一致对外”、“打倒日本帝国主义”等口号，举行了声势浩大的抗日救国示威游行。国民党政府出动大批军警镇压，３０多人被捕，数百人受伤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20640"/>
            <a:ext cx="87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一二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九运动公开揭露了日本帝国主义侵略中国，并吞华北的阴谋，打击了国民党政府的妥协投降政策，大大地促进了中国人民的觉醒。它配合了红军北上抗日，促进了国内和平和对日抗战。它标志着中国人民抗日民主运动新高潮的到来。正如毛泽东所指出的，一二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九运动“是抗战动员的运动，是准备思想和干部的运动，是动员全民族的运动”，“有着重大的历史意义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5667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参加示威游行的北京大学先锋队夺到军警的水龙后反击军警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3:32:5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16:17Z</dcterms:modified>
  <cp:revision>7</cp:revision>
  <dc:subject>主题班会课件(分28大类): http://shop62905894.taobao.com</dc:subject>
  <dc:title>主题班会课件(分28大类): http://shop62905894.taobao.com</dc:title>
</cp:coreProperties>
</file>